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EBB-2670-49A7-8E7F-AC46CE68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518-3BD5-4084-9ED7-927FCE5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285-F615-4C29-8316-FBBB2845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4AB-4776-4D7F-B73E-533F0636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857A-9E9A-48E3-A885-9C407C11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E940-202C-4051-A71D-0A318E8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AC2-B788-4FBF-B817-7052E1FF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557-71C3-4211-A331-922DA9B9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EF54-34DF-4C6C-8E6E-84AF391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3433-6954-4160-A6B3-1DBF329E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176D-4F2A-4707-A37E-E9886AA1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BA8-7AC3-4257-AEB6-6395712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DFB8-8C36-45AA-9BDC-7FEB1FF5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CAEC-E68B-4A76-AD9E-699F42E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938D-6DAF-403C-8A96-4054F564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F9E2-5B9A-4524-AA6D-5624A906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EC8-DE96-41C9-A3B5-498439FD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7C7-6B90-4305-BC3A-B634338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C04-3950-4CB8-91A4-8BF8CD7E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B3D-CC2E-48C6-AE02-3E537E9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EEE-A5B5-412D-A537-99E5028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50D-711F-47DF-83F3-A13209D8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32E-2A65-4D34-B7F6-C29ADA5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5A1-1F87-4412-9C93-D01F4755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D24A-47B7-43FC-B9B1-BD98CBA0A1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BF4B-38DE-4A97-A680-568885C657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Твори добро,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и ты растворишь зло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Евгений Андреевич Пермяк</a:t>
            </a:r>
            <a:br>
              <a:rPr sz="6000"/>
            </a:br>
            <a:br>
              <a:rPr sz="7200"/>
            </a:b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«Надёжный человек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ermyak"/>
          <p:cNvPicPr/>
          <p:nvPr/>
        </p:nvPicPr>
        <p:blipFill>
          <a:blip r:embed="rId1"/>
          <a:stretch/>
        </p:blipFill>
        <p:spPr>
          <a:xfrm>
            <a:off x="468360" y="333360"/>
            <a:ext cx="3701880" cy="612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NadcheO1"/>
          <p:cNvPicPr/>
          <p:nvPr/>
        </p:nvPicPr>
        <p:blipFill>
          <a:blip r:embed="rId2"/>
          <a:stretch/>
        </p:blipFill>
        <p:spPr>
          <a:xfrm>
            <a:off x="4572000" y="549360"/>
            <a:ext cx="361476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694476"/>
          <p:cNvPicPr/>
          <p:nvPr/>
        </p:nvPicPr>
        <p:blipFill>
          <a:blip r:embed="rId1"/>
          <a:stretch/>
        </p:blipFill>
        <p:spPr>
          <a:xfrm>
            <a:off x="1547640" y="0"/>
            <a:ext cx="183528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_55f49_40b321c6_M"/>
          <p:cNvPicPr/>
          <p:nvPr/>
        </p:nvPicPr>
        <p:blipFill>
          <a:blip r:embed="rId2"/>
          <a:stretch/>
        </p:blipFill>
        <p:spPr>
          <a:xfrm>
            <a:off x="5292720" y="260280"/>
            <a:ext cx="1606680" cy="20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413412"/>
          <p:cNvPicPr/>
          <p:nvPr/>
        </p:nvPicPr>
        <p:blipFill>
          <a:blip r:embed="rId3"/>
          <a:stretch/>
        </p:blipFill>
        <p:spPr>
          <a:xfrm>
            <a:off x="7137360" y="3357720"/>
            <a:ext cx="2006640" cy="32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000196814"/>
          <p:cNvPicPr/>
          <p:nvPr/>
        </p:nvPicPr>
        <p:blipFill>
          <a:blip r:embed="rId4"/>
          <a:stretch/>
        </p:blipFill>
        <p:spPr>
          <a:xfrm>
            <a:off x="2411280" y="314172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36882"/>
          <p:cNvPicPr/>
          <p:nvPr/>
        </p:nvPicPr>
        <p:blipFill>
          <a:blip r:embed="rId5"/>
          <a:stretch/>
        </p:blipFill>
        <p:spPr>
          <a:xfrm>
            <a:off x="6948360" y="0"/>
            <a:ext cx="1865520" cy="30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avcvrO1"/>
          <p:cNvPicPr/>
          <p:nvPr/>
        </p:nvPicPr>
        <p:blipFill>
          <a:blip r:embed="rId6"/>
          <a:stretch/>
        </p:blipFill>
        <p:spPr>
          <a:xfrm>
            <a:off x="0" y="0"/>
            <a:ext cx="142884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260583453"/>
          <p:cNvPicPr/>
          <p:nvPr/>
        </p:nvPicPr>
        <p:blipFill>
          <a:blip r:embed="rId7"/>
          <a:stretch/>
        </p:blipFill>
        <p:spPr>
          <a:xfrm>
            <a:off x="3492360" y="0"/>
            <a:ext cx="1866960" cy="2381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514853"/>
          <p:cNvPicPr/>
          <p:nvPr/>
        </p:nvPicPr>
        <p:blipFill>
          <a:blip r:embed="rId8"/>
          <a:stretch/>
        </p:blipFill>
        <p:spPr>
          <a:xfrm>
            <a:off x="4859280" y="3213000"/>
            <a:ext cx="189864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640753"/>
          <p:cNvPicPr/>
          <p:nvPr/>
        </p:nvPicPr>
        <p:blipFill>
          <a:blip r:embed="rId9"/>
          <a:stretch/>
        </p:blipFill>
        <p:spPr>
          <a:xfrm>
            <a:off x="468360" y="3284640"/>
            <a:ext cx="1739880" cy="292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107172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500040"/>
            <a:ext cx="85406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ётчик-испытател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тот, кто производит проверку, испытание самолё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ворат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быть больным, переносить какую- нибудь  болезн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ойчивый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– упорный, твёрдый в достижении чего-нибуд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прягатьс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(в сан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ружба – главное чудо всег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 открытий для нас таящ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любая беда не бе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сли рядом друзья настоящ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press"/>
          <p:cNvPicPr/>
          <p:nvPr/>
        </p:nvPicPr>
        <p:blipFill>
          <a:blip r:embed="rId1"/>
          <a:stretch/>
        </p:blipFill>
        <p:spPr>
          <a:xfrm>
            <a:off x="539640" y="189000"/>
            <a:ext cx="2008440" cy="15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ostluk09"/>
          <p:cNvPicPr/>
          <p:nvPr/>
        </p:nvPicPr>
        <p:blipFill>
          <a:blip r:embed="rId2"/>
          <a:stretch/>
        </p:blipFill>
        <p:spPr>
          <a:xfrm rot="19837200">
            <a:off x="826920" y="4076280"/>
            <a:ext cx="1567080" cy="233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wwwpeoplemd"/>
          <p:cNvPicPr/>
          <p:nvPr/>
        </p:nvPicPr>
        <p:blipFill>
          <a:blip r:embed="rId3"/>
          <a:stretch/>
        </p:blipFill>
        <p:spPr>
          <a:xfrm rot="1833000">
            <a:off x="6372000" y="4005360"/>
            <a:ext cx="2247840" cy="244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6_tattys"/>
          <p:cNvPicPr/>
          <p:nvPr/>
        </p:nvPicPr>
        <p:blipFill>
          <a:blip r:embed="rId4"/>
          <a:stretch/>
        </p:blipFill>
        <p:spPr>
          <a:xfrm>
            <a:off x="7020000" y="189000"/>
            <a:ext cx="180180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125280"/>
            <a:ext cx="8510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680" y="357120"/>
            <a:ext cx="8540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за сотрудничество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Вы настоящ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ники и умниц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21:06:45Z</dcterms:created>
  <dc:creator>user</dc:creator>
  <dc:description/>
  <dc:language>en-US</dc:language>
  <cp:lastModifiedBy>Русинова Татьяна Федоровна</cp:lastModifiedBy>
  <dcterms:modified xsi:type="dcterms:W3CDTF">2013-02-24T17:09:12Z</dcterms:modified>
  <cp:revision>17</cp:revision>
  <dc:subject/>
  <dc:title>Слайд 1</dc:title>
</cp:coreProperties>
</file>